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BF7E-486E-4194-B0B3-C2E82EDF638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B4A2-147D-4773-8251-7A35FF2ABA12}" type="slidenum">
              <a:rPr b="0" lang="en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3E3-391F-4008-B9DB-1DBC9251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A2D-F21F-42A5-B8B0-4F7A1E44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18E-8963-49D6-BB12-54C442E3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7C8-326A-4B1D-B431-4319C6FC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C316-CE18-4739-9D8D-DB66920A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3051-FF8E-468B-BFD7-8DB000E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5636-AC77-4655-A574-83FDD45E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A65-3615-41C9-9960-C485014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E504-C3F9-413B-A183-315F4A90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4FDD-2460-4336-854C-447E7506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965-E374-4D9A-8CAE-B3DA93C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210-574C-41F0-AE8E-BC1C453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E57B-019C-4D87-93E6-E70508E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17A7-6137-445E-970F-0C4DFD0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48B-541D-4AF1-8BB4-0796A087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69D6-5D43-4959-A378-5078B636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3DBA-4DB2-4AB9-B37D-F3B127BD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3239-4697-4C15-9685-CC427E89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FF2B-B6FA-4ACE-BD98-0BE22C3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F678-B08A-4D83-A181-E66751A6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DA63-A5EA-4A5F-990F-F76C00A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24FD-F66C-4A5E-9302-0270186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648-02AF-476E-8142-9565761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D62F7-A347-4164-A524-0E190C96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850E-05EB-4CA0-9C96-93482BB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8539-AEA3-475A-8231-5B811D3B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E626-2C08-46D4-93CD-C921F81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ED49-F03C-403E-9AF7-B74ABCF0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6A03-627E-4542-97CB-88BB91A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A4C2-DFE0-47C9-87D8-E095936E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0BDD-D3AE-4ABB-87F2-BCF3D482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584A-1D76-42B4-A60A-C582EC9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836F-738F-4A97-AF27-EC84BDF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22B-5BF8-4EA0-A1E5-19A12B1D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5726-0174-49A1-933D-2122DD3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3826-4AF1-41AB-B9E4-F19ABDC9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D755-A031-4E47-8F8C-743948B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145E-7C9E-4783-8018-F4929525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A0FE-560B-418D-B7CE-4C739591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8C3DE-D97A-4D2E-AA03-D11E812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4A7C-C440-4AA7-84F6-0848267E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F307-8998-48B0-B38F-A507917A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61E86-4C79-4318-BB60-91D86140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DC07-23A5-4470-B58F-9956FEF5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CBC-E309-4BA9-A8BD-2EE83FB7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D9C6-BFED-4B88-929B-1F161D6A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4A67-6E5E-48FB-99D5-336BFE2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74BD-A691-4201-890F-DFC66AE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3F66-037C-4B45-A28C-8E738A45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FA028-BC98-4538-AD00-374B601E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856C-3A67-4ACF-8001-90F1CE0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7BA0-2A74-4BA0-A506-B5369D9F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49E4F-B7AE-41ED-A92D-2571DBD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C8FF2-7234-47A4-90EF-72DE1CFF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6F58-218B-4B2C-857E-58402315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C7A-1D3C-4AC5-89F4-34661C2D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22F7-B536-4CC8-84A2-E31EABC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FA93-8872-48B5-BAEB-22A907B1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C539B-8292-4157-ABFC-ACC13AFD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8F41-73E0-46D0-BEE5-548C2B1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B88EB-4C69-42CB-ACC5-EA3E9764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AA67-6842-449D-B3D1-FCCBA7AB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0405-6F82-43F7-8A31-A7D41A9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EFDA-EE13-40F8-95C3-AF92687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2961-D3D6-4F71-8F73-83C0A65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1449-1AD3-4450-98D1-8AC9EF3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45C-C842-4885-BE65-25A46B8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5058-29EB-47F3-B00C-51475C4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EA2D-90B1-473D-9720-C87F2034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95AAC-FA77-42AC-B4D1-FFBF289C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4B8-D5FD-448B-A0D1-5144CA4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874-3D04-4290-90FA-08AC8DF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1831-DCEA-4589-A664-AFE7E139287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41D-6C0E-4C05-A0EB-E3C6CAB81CD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7A0-6058-491E-9813-B1373FDFAC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C9D8-9A11-4244-A5D7-BEC84ED105B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F85-FBCB-4F95-A254-20DFBF5D95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DE1F-A52F-4D91-82E8-69C3E031A39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alepsy" TargetMode="External"/><Relationship Id="rId2" Type="http://schemas.openxmlformats.org/officeDocument/2006/relationships/hyperlink" Target="http://en.wikipedia.org/wiki/Echolalia" TargetMode="External"/><Relationship Id="rId3" Type="http://schemas.openxmlformats.org/officeDocument/2006/relationships/hyperlink" Target="http://en.wikipedia.org/wiki/Echopraxia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msis.org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6480" y="92160"/>
            <a:ext cx="9485280" cy="2736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1360" y="2928600"/>
            <a:ext cx="7848360" cy="3714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Peter Chan, MD, FRC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iatric and Consult-Liaison Psych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ad of ECT Progra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couver General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ssociate Professor, Dept. of Psychiat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British Colu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8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-5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ed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875 mg/d, Seroquel 350 mg/d, Clonazepam 2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an’t see”, “Can’t swallow”, more tremor, disorga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ntipsychotic prn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5072040"/>
          <a:ext cx="6095880" cy="148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xap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oqu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9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56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hinks food is poiso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cing, Didn’t slee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PK= 18,245 (normal &lt; 23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BC= 12,400 (normal &lt; 11,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= 37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BP = 170/90 (not lab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PR = 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0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differential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79675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Case Presentation-11</a:t>
            </a: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: </a:t>
            </a: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Ms. A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356760"/>
            <a:ext cx="8400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-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5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nsfer to Acute Medicine Step Down:  N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ntipsychotics sto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6: “lead pipe rigidity”, Dantrol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7: Bromocryptine added, Desat 80% O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ransfer to ICU after code blue (aspiration L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EG:  Mild slowing lef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oponin 0.53 (normal &lt; 0.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57160" y="4572000"/>
          <a:ext cx="7143840" cy="22255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-14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8-12 (ICU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8: Midazolam drip, no clonazepam, stop Epiv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9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peat E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ild diffuse encephalopathy, intermittent slowing ( 1-3 Hz delt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T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Nil acute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12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igidity, voluntary component, Rabbit-like jaw tre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2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 initiated in ICU (rocuronium us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0340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Hypotension, bolus hel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3-Dec 6 (ICU then Acute Medicine Uni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’s times 9, 50% energy do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low improvement in alertness, rigidity,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emor and “rabbit” jaw movements g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iling, recognizing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ding tube but eating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ansferred to Provincial Institution from STAT on Dec 10 for further treatmen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DSM-IV criter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571400"/>
            <a:ext cx="8726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Motor immobility as evidenced by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catalepsy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(including waxy flexibility) or stupo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cessive motor activity (purposeless, not influenced by external stimuli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treme negativism (motiveless resistance to all instructions or maintenance of a rigid posture against attempts to be moved) or Mutis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Peculiarities of voluntary movement as evidenced by posturing, stereotyped movements, prominent mannerisms, or prominent grimac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Echolal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Echoprax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least 2 of the above features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ue to mental (eg: Schizophrenia or Mood Disorders) or medical disor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oes not occur exclusively during the course of a Deliriu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*Gegenhalten, Mitgehen, Automatic Obedience, Ambitendenc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nk Catatonia Scale (1996): www.ukppg.org.uk/catatonia.htm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Postu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pontaneous maintenance of posture (s), including mundane (e.g. sitting or standing for long periods without reacting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imb pos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sychic pill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t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428840"/>
            <a:ext cx="85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ig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aintenance of a rigid position despite efforts to be moved, exclude if cog-wheeling or tremor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ga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pparently motiveless resistance to instructions or attempts to move/examine patients. Contrary behaviour, does exact opposite of instr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axy Flex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uring reposturing of patient, patient offers initial resistance before allowing himself to be repositioned, similar to that of a bending cand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arning 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review symptoms and signs of catatonia including lethal catatonia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know the overlap between catatonia and neuroleptic malignant syndrome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understand the role of ECT in both catatonia and neuroleptic malignan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Gegenhal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Continuous involuntary sustained muscle contraction When an affected muscle is passively stretched, the degree of resistance remains constant regardless of the rate at which the muscle is stretch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Mitge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"Anglepoise lamp" arm raising in response to light pressure of finger, despite instructions to the contra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428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mbitend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tient appears "motorically stuck" in indecisive, hesitant mov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utomatic Obed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Exaggerated cooperation with examiner's request or spontaneous continuation of movement request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Lethal Catatonia (Kahlbaum 1874)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ann et al., Amer. J. Psych. 1986; 143:11, p. 1374-81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ic description (Pre-neuroleptic era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nse motor excitement followed by hyperthermia and exhaustion or stup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ten prodromal phase of insomnia, anorexia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demontrate catatonic signs, and be delirious-like (disorganized thinking, psychosis, destructiv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have rigidity, or flaccidity, in terminal s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ce of acrocyanosis in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75-10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thal 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t-neuroleptic e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por may be predominant pres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ipsychotics, benzo’s, etc. can decrease excit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10% inpatient psych. admiss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60%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euroleptic Malignant Syndrome:  DSM-IV criter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560" y="2017440"/>
            <a:ext cx="8839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evere rigidity and elevated temperature associated with the use of neuroleptic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of the following:  diaphoresis, dysphagia, tremor, incontinence, change LOC, mutism, tachycardia, elevated or labile BP, elevated WBC or CPK (may also observe myoclon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ue to another substance,  or neurological disorder, or other general medic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better accounted for by a mental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Medication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218960" y="25142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 med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drawal of L-Dopa or dopamine agon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hlorperazine (Stemeti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oclopramide (Maxer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trabenanzine (Nitom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risk facto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haustion and Dehyd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itation, Stress, Psych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er potency, rapid titration, multiple I.M.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heat a facto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ious history (trait vulnerability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7% hx. of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% will develop NMS again upon re-challe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ea0b0"/>
                </a:solidFill>
                <a:latin typeface="Franklin Gothic Book"/>
              </a:rPr>
              <a:t>NMS: Pathogenic Mechanism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igure 1. Simplified Pathophysiology of Neuroleptic Malignant Syndrome (NMS), and Elements of Sympathoadrenal Dysreg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rom:  Strawn J. Neuroleptic Malignant Syndrome (review).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Am J Psychiatry 164:870-876, Jun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-23760" y="622440"/>
            <a:ext cx="91868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-76320"/>
          <a:ext cx="9144000" cy="7012080"/>
        </p:xfrm>
        <a:graphic>
          <a:graphicData uri="http://schemas.openxmlformats.org/drawingml/2006/table">
            <a:tbl>
              <a:tblPr/>
              <a:tblGrid>
                <a:gridCol w="216000"/>
                <a:gridCol w="2285640"/>
                <a:gridCol w="300240"/>
                <a:gridCol w="428400"/>
                <a:gridCol w="511200"/>
                <a:gridCol w="749520"/>
                <a:gridCol w="747720"/>
                <a:gridCol w="747720"/>
                <a:gridCol w="672840"/>
                <a:gridCol w="1557360"/>
                <a:gridCol w="92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chdev NMS Scale (2005): total=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hag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ng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car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phor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in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pn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ed LO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erty of spee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eifo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t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 level (U/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ocyt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285920" y="2143080"/>
          <a:ext cx="6095880" cy="3143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K level (U/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 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0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–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1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–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2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–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3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 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4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Sachdev NMS Rating Scale:</a:t>
            </a:r>
            <a:br>
              <a:rPr sz="4600"/>
            </a:b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 CK Levels (Psych Res. 200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68 y.o. Italian independent woman, some command of English, on Thioridazine (Mellaril) for 49 years, since last institutional admiss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istory of Psychosis, postpartu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 family psychiatric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Brief hosp. In 1990’s at SVH after Thioridazine briefly D/C’d...hysterect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idow in 2002, lives alone in house, Gr. 5 education, restaurant worker, supportive 2 sons,1 dtr., brother and sis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Cour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2% of pati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% develop within 24 hrs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6% develop within 1 week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by 1 month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3% recover within 1 week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recover by 1 month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uld wait 2 weeks at least after recovery before re-challenge with antipsycho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-20% mortality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w have persistent catatonic and/or parkinsonian st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aroff, S. J. Clin. Psychopharm.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2438280"/>
            <a:ext cx="8915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leptic Malignant Syndrome Information Service (NMSI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4 hr. Hotline for professionals: 1-888-667-836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nmsis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tion: 1-888-776-674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profit clinical and research group—Drs. Caroff, Mann, Campbell (U. Pen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: Catatonic and Non-Catatonic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Lee JW, Aust NZ J. of Psych. 2000; 34(5): 877-8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ecedent Catatonia may predispose to catatonic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catatonic NMS more likely preceded by severe EPS and deliri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Similariti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42884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catatonic symptoms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rigidity and hyperthermia in (lethal)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with Lorazepam in NM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ancis A. CNS Spectrum 2000)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Catatonia can impro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bo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292 Lethal Catatonia patients from 196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ann S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m J Psychiatry 1986; 143:1374-1381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able to distinguish from NMS in 22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Differe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713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eme (lead pipe) rigidity uncommo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reotypic signs of catatonia unusual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itement then hyperthermia pre-neuroleptic in lethal catatonia; rigidity then hyperthermia post-neuroleptic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tentially effective treatments for NMS (dopamine agonists, dantrolene) less prove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milar Conditions:  DD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Hyperther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inerg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tonin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able alcohol or drug withdrawal (eg: delirium tremens) and intoxication (eg: Ecstas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epilepticus and other CNS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Conditions: infection, hyperthyroidism, pheochromocytoma, adrenal cortical abnormalities, other causes of rhabdomyolysis (eg: colla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n the modern era, the most likely psychiatric cause for catatonia is Bipolar Disorder, esp. Ma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re likely when severe 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Kahlbaum, Bleuler, Kraepelin all noted mood disturbance preceding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Prevalence of Catatonia and Ma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500200" y="15001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.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athogenic Mechanisms: Catatonia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chemical substra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2 antagonists can worsen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B, 5-HT1A agonists promot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A, 5-HT2A, NMDA agonists reduc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. Northoff (2000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bbsonline.org/documents/a/00/00/22/44/bbs00002244-00/bbs.northoff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4 page pa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 Down Modulation”: subcortical and cortical circuits reciprocally conn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GABA-mediated, rather than D2 medi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www.bbsonline.org/documents/a/00/00/22/44/bbs00002244-00/figure2.jpg"/>
          <p:cNvPicPr/>
          <p:nvPr/>
        </p:nvPicPr>
        <p:blipFill>
          <a:blip r:embed="rId1"/>
          <a:stretch/>
        </p:blipFill>
        <p:spPr>
          <a:xfrm>
            <a:off x="642960" y="0"/>
            <a:ext cx="7858080" cy="650088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284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June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oxapine 25 mg bid after stop Mellaril in May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abile, energetic, little sleep, racing thou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elling bad odours in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carrying knife, throwing items in frust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nfused” , disorganized, suicid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VGH Inpt Unit via emergency (June 10-July 18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Olanzapine 15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zado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0.25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7470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Modulation in Catato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4" name="Picture 2" descr="http://www.bbsonline.org/documents/a/00/00/22/44/bbs00002244-00/figure4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www.bbsonline.org/documents/a/00/00/22/44/bbs00002244-00/figure3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51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The Frontal Lobes and its Connection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571920" y="2143080"/>
            <a:ext cx="2143080" cy="3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214280" y="4143240"/>
            <a:ext cx="171468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572240" y="5786280"/>
            <a:ext cx="142884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Catatonia and PD: Differenc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4200" y="2357280"/>
          <a:ext cx="8929800" cy="4173840"/>
        </p:xfrm>
        <a:graphic>
          <a:graphicData uri="http://schemas.openxmlformats.org/drawingml/2006/table">
            <a:tbl>
              <a:tblPr/>
              <a:tblGrid>
                <a:gridCol w="1636920"/>
                <a:gridCol w="3483000"/>
                <a:gridCol w="3809880"/>
              </a:tblGrid>
              <a:tr h="162648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orazep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-ergic mediated neuronal inhibition in medial orbitofrontal corte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odulation of functional and behavioral inhib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916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D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Amantad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prefrontal and orbitofrontal-pariet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subcortic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820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p-down modulation of striatal D-2 receptors predisposing for neuroleptic-induced catato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Compensation for striatal D-2 receptor deficit with "normalization" of "bottom-up mod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000160" y="1285920"/>
          <a:ext cx="6096240" cy="557280"/>
        </p:xfrm>
        <a:graphic>
          <a:graphicData uri="http://schemas.openxmlformats.org/drawingml/2006/table">
            <a:tbl>
              <a:tblPr/>
              <a:tblGrid>
                <a:gridCol w="2911680"/>
                <a:gridCol w="3184560"/>
              </a:tblGrid>
              <a:tr h="557280"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Cataton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rkins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atatonia Treatment: Review of Lit.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Hawkins et al., Int. J. Psych. Med. 1995; 25(4): 345-69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178, 1985-1994 published c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zo’s effective in 70% (Lorazep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85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s effective in 7.5%, or may even worsen symptoms (neuroleptic-induced catatoni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le out medical cond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razepam 1-12mg/day, up to 72hrs. T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ic GABA-A agon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trolene to be considered if rigid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is treatment of cho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consider mECT if recur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ypical Antipsychotic? (not for lethal cataton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ant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Biological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ontinue Antipsychotic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ive Medical Treat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ld to Moderat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mocryptine 2.5-5 mg q8h (up to 3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 100mg q8h (to 200-40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use Benzo (eg: Lorazepam 1-8 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rate to Sever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ntrolene IV 1-2.5mg/kg (1mg/kg q6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T (bilateral, may even be dail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MS and ECT: Review of Lit.</a:t>
            </a:r>
            <a:br>
              <a:rPr sz="4100"/>
            </a:b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Trollor and Sachdev, Aust.NZ J. of Psych 1999; 33:650-59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2209680"/>
            <a:ext cx="9144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 published cases from 1966, and 9 new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tonia manifested in 76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3% complete and 28% partial recovery with 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of ECT response average 4 treatments, generally by 6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cases of cardio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use of succinylcholine unless familial malignant hyperthermia—only one case of hyperkalemia following ECT for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ECT: Potential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243828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ollor and Sachdev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re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al between NMS and catatonia uncert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ychotic depression is the underlying disor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atonia predominates in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5086440" cy="3495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 Treatment Algorithm</a:t>
            </a:r>
            <a:br>
              <a:rPr sz="4600"/>
            </a:br>
            <a:r>
              <a:rPr b="1" lang="en-CA" sz="2800" spc="-1" strike="noStrike">
                <a:solidFill>
                  <a:srgbClr val="ffffff"/>
                </a:solidFill>
                <a:latin typeface="Franklin Gothic Book"/>
              </a:rPr>
              <a:t>Filip Van Den Eede et al. European Psychiatry 2005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356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be difficult to differentiate NMS and catatonia in practice, and definitive treatments are simi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tipsychotics with less dopamine blockade is probably less likely to produce NMS and less likely to be severe, according to the dopaminergic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MS and catatonia can be safely and effectively treated with ECT, providing precautions ar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3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hort-term Assessment and Treatment (STAT) Geriatric In Unit (Aug 23, 2007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ad been seen at STAT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ontinent with urinary re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witched from Olanzapine to CPZ 250 mg/d by community psy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ependent on IADL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MS=72/100; FMMSE=24/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TAT In-Unit (Aug 23-Sept 1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od labile, insom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lternates between singing at night and weeping in daytime, playing op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me pressure of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, mixed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750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Quetiapi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5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28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ept 15-28, 2007: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ypomanic in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reased hom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mpliant with Epival (level=498) , mixing up blister packed med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n called emergency mental health services on Sept 25: threaten him with a knife “leave me alone”, crying continually, plays loud opera music in the phone, looking for a new partner, hostile and throwing things, isolate from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Quetiapine up to 175 mg/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6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VGH Psych Emerg. and STAT (Sept 28-Nov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oquel increased to 350 mg/d, multiple IM doses  in Psych Emerg.  Seclusion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Oct 3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ood la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emanded to see her husband, anniversary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ad...join husband, tearful, tangential, speak 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hysically aggre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Grandiose “I’m God. Don’t touch me...kill you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leeping 2 h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MS=49/100; FMMSE=18/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2 mg/d, Seroquel, Epival (level = 5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7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Oct 31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l dizzy, speech different, tremor, heada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PK=37, WBC=8000, Valproic level=66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 hrs/nt sleep past 2 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hypervigil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ine resting tremor (no cogwheeli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thing inside”, 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Resistance to food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0:28:37Z</dcterms:created>
  <dc:creator>Peter Chan</dc:creator>
  <dc:description/>
  <dc:language>en-US</dc:language>
  <cp:lastModifiedBy>Peter</cp:lastModifiedBy>
  <dcterms:modified xsi:type="dcterms:W3CDTF">2009-10-26T21:16:37Z</dcterms:modified>
  <cp:revision>129</cp:revision>
  <dc:subject/>
  <dc:title>An Update on Catatonia and Neuroleptic Malignant Syndr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